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8237-6EEF-4920-BD66-C53C8D16C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A54D-23E2-4875-BD75-3164CC86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1E4D9-5D41-4F05-AB19-FBD5D9C7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435C1-CD70-4FC6-B954-9BD8223A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E9995-1DE0-4F48-810D-97F435A5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AF4D8-5220-47A4-8411-20C9E140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0453C-95EC-42D7-BFA2-78FDC063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C6F16-94D2-47F4-BE2A-02E61DCD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B87CC-B640-4929-B0F6-A92C55FE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248E4-5F2B-43D6-97EC-2124EF04C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770ED-0886-47B9-A82F-7907B30B9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9F44A-11B0-4ADF-973C-726C37EE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02F6-9265-4586-9393-9AA24DE7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37C59-A282-4467-AE39-9FB644B7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3569D-6708-4A80-9C7C-BACF10C3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37685-E101-45EC-8A96-2E30C265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7BEF2-B781-4B1E-86E0-FD6B7926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10A86-464E-44B9-8367-8C0A0809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AC770-7446-4F82-938F-4A5028D6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66F83-C430-4162-9822-ACC7AB8E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4718FA-D7EE-4638-8A5D-E9C7D93B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900CC-8439-44EF-B848-EA9BC78D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6057C6-6B1F-41EE-82CF-BB6E5A147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1B2A-900E-4E25-AA81-191B5B0E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45E8C-8A60-47E6-AA99-CFFDAD34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BEE29-0BF8-4F0B-B59B-0D63E7A80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E7C92-DA5A-4F9B-A86C-51C2195E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0F984-F141-4D03-BFA4-9B70E069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54049-8092-415C-92CC-C0C3611F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85907-2103-47F8-893C-B4E06653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FEDD0-4722-4B1D-867C-04635512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6C0D5-91F4-4E83-9B04-D4D2D2BE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DE3B0-4D73-42FB-A83D-68283F93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3F50C3-8C64-4CBB-8BD2-6DD9BC53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29A6-A9E2-49BA-B55F-FC35AB14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B1644-60A4-480E-97C9-99F60C68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67BCE-399A-426C-BD37-66FE29485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ADCB4-3E25-40B0-BE81-9C4C61C3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BDBC71-ECBB-47D4-8CD5-B3B2D2DCE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EE508-CFF8-42B7-AFA1-2349A184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A39268-E42F-4831-9CA0-96121ACD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9F0381-57EB-4E02-A32E-D6BA4BB3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D44DD-9D79-4D57-9A99-BFE6213C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E3EA6F-268E-4B9B-A4DC-36C7E518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58B326-93C6-4747-9132-F6D13A56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3DCE-5E12-48DA-9A93-1C696AAF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2057C7-C399-4DAB-AE65-EA0BADD7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05533A-6898-4B3A-B2A4-429519E3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561CF9-AE28-4A3B-802D-7155F518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292D1-B78F-4FEE-96D5-0232A114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0B3589-A0F2-4E06-8B30-CAE4514B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4AAB8E-74F5-46D0-B212-0B369741F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0A3151-63D2-46A8-9AE3-4946B7F0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744F03-169D-4A5B-BA6B-922657DA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191FC5-EA50-44F2-BB26-B3805118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E95C76-EFA8-4AA6-86D8-A0ABB9BC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FB7C-1947-4B68-9FD1-95D3D77C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AB7DB1-ADEB-495E-967C-27BF5DFB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71DA6B-AE4A-4D0B-A865-38522307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189CA4-75D3-49A9-BE01-777C4271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A130E4-43AA-4CB1-AAEE-897937FA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34088E-FFC0-447E-B9BA-C49C0B10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F9F17A-49D4-41B3-B844-257B1327F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82289E-94F3-42DA-BEA3-C9771A99D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B221BF-AF67-4160-8649-F825F5E4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98EB93-4FF7-44C5-AF73-B7FC70D4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CB51C0-CCCB-4A68-9B28-CB23F2ED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F0F5-BEE5-4C68-BD8B-A7BC0A99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5CD567-4410-42F0-A5A7-2738145B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EBCC03-C56E-4F2B-B0BC-634A4203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523A8C-CDF2-4A35-B81F-D0FB575C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3CC5EC-0F0D-470E-B738-E7D3A3C7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361D72-888D-4220-820E-3CB88CEE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56EB7A-A0B0-4DB2-B3DB-9137295F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502085-45E7-489D-922E-02CBC21B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89E4B6-BBF4-4797-85B0-A0BEFF19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55913C-FA61-4D21-8D84-71C316DE9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8371D7-2564-4369-BAEB-AD620B66E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D2B4-495A-488A-AF68-850326D7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5FF4E6-CB1B-4976-A707-F9CB301F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331754-EAAA-472F-A15E-387F50CE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979DC3-8D63-4185-A3B4-AC3E6525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0A84A7-8B82-42C2-81EB-0B3039CD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E8F411-40F5-45AF-8B07-A346A7C7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59DF2E-2986-48D2-A73F-0BADF4DD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25ABCC-31C2-4A41-897D-E2E28B25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DB6FCC-CFC9-4C2F-89E4-B1B32F71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566F18-64BF-4F26-B172-DA2841E2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632F25-13CE-4A89-9514-AACD40D3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168E-7502-4690-91E9-C540863A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F5D45A-6CAF-43A0-BE24-480B75F08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AF11EC-993A-4525-90D8-B199FAE3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9E7F8A-D545-43D7-9CD5-A23D817B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6FD660-1405-4CDA-AE15-CF80DC1F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1C55BB-6569-45FE-BC94-BFBDF20D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0C7E09-3B4E-4885-8DA6-8230C95B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5FAA16-51EE-4B52-9811-83A4763E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01505F-FDCE-45B9-A23D-9C27C537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A23948-4857-4051-ABE8-61DFB0DB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70937D-F0C5-4C92-BA47-997A2E3A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C76F-6025-4564-8D7C-F09F0814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CF079E-9FCD-4292-A527-606B267E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D7183B-0E45-4EAB-AE52-4268F58A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01E804-0B00-4DE7-8FE7-032E4B99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5F9BFD-07F9-42CB-B1C3-EB20A96C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C86A3D-427F-4C01-A851-7046FCE2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9B361B-1268-4571-A31E-D8AB3265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1800FA-F2D6-40FD-8FE3-79846C90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E82BC8-90D4-4C90-AE91-FA039F7E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04759B-3804-49C1-8B30-EF0C929F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ADABD5-F658-4DFC-A046-32CF7244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8886-1973-458E-A93E-0F3C81BD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2F1F-CD9B-49DE-A9EE-B485C83F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6BC3EC-DDA6-4AF3-8AF6-1C80BF80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4C25EE-5C0D-4B8E-AEDA-89C39D9F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113A72-2C1B-4759-B87A-7EECDD4E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B33AF7-B4D8-4517-95DB-C3B47C5E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DDD690-3B15-4E7D-A2AC-47E02855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2556E4-968D-4604-A7E3-6BEE1D5F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4C6FEC-9C8A-4271-ACD5-D8340346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2E732A-62E1-43A9-B4F7-9309B35A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0E18CA-CF46-4D02-A124-F7EE4D70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F844CD-8EE4-41D1-ADA4-B04766E9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0EE6-99C6-4A78-BECE-368FCFDD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C29A50-C40A-4E96-A263-FFBD9488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1B237D-DB99-4483-9D1F-2D58D658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F309BA-2B25-4973-BD0A-C1E85541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CD510D-6C6E-4E02-9BA6-110D169D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CC7C9D-1DC4-402B-A667-8E5AB483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9BC336-8B8A-4831-83A1-C8FE7DF11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CC6466-B450-4474-BA1D-CC360886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828C86-D85E-404B-9205-0BCCE6646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F63E9E-B0A8-4FE0-965F-38628593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479768-0455-41D9-B9D9-3C86E1F4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79DF-7728-4561-A2DF-BF1CD622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A9D4C4-8BF8-4E7D-ADE9-82745872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6FD4C4-A26A-4529-A264-4672823E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B885C2-3412-47AA-994C-39850316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0BA423-DFA5-4E62-AACC-09AD8EC7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97D476-F786-47A5-8AD1-2E2F2238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E3BB3E-B931-4E07-B6D3-8CEFA12F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4FC68C-32FA-457B-8A5F-A8271FE3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A7E162-567F-4516-A011-95F2985E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5D05DB-50E4-4F0E-9451-65C92052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8E173D-9FBE-4724-B431-CD876ED5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C6E8-A16E-4B20-BF97-6372ABA6E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4EE45A-3AD2-4971-9EBB-76D0E4C0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84FB16-96AC-40FA-B5F7-0630E5B5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D3100D-A968-4B78-A6FD-E39B3EF0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BCEA2F-BB4B-4EC2-8C78-7276FC3E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C9CD61-3AA9-425A-8D4D-513CC0F2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A365C8-1311-4D0C-A1E8-38DA0BA0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BBC171-02E7-4150-B069-DF80997D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6DC7E6-4C03-4B3E-9467-B19F19FA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8AD19C-11AB-4D2C-8AE4-3D4A0FB7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00C60E-63B3-45F5-A2F8-7D1AE883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9D7F-D0D7-4287-B49E-BD1314DE1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8956F4-CCBD-40A2-BDF5-8F051049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9B1071-570D-4649-9014-225D8D123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E3FEBD-8484-4081-BFB1-BB282E64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5AEC78-CAFC-48DB-B7AB-6523291C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B6337F-71EA-4B10-9572-361E3661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950932-C18E-47BE-AFDB-5C37C7C6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27E3EB-AAA7-4BBE-A32C-67C88E67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D817D1-93D8-4858-91ED-6A492037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4A6CB3-9D27-45AA-9FCC-6EB46096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36522A-D5CD-408D-B9C4-92650465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3ABDB-C07E-4EE5-B2CB-5A9AB0C2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30B0E6-5126-49C7-9BEE-9E8CF778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489919-F480-4384-8ADB-FD5FF7E51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CBB866-0027-468A-BF8E-94BF67CD7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2E4F4F-EBCC-405C-B6F4-E2F72F4E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AED2F7-0FBC-4576-B796-15603C89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F48414-40A3-4613-95B0-D396FC18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BE03AA-C5B2-4A41-810D-924495D2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11F02A-36E0-4835-9C7F-B77A775E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392302-2FA1-4E1F-84FB-8B6EEB1B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8B51C8-4C59-47DE-924A-4D59AC2D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34682-AD45-4376-82A0-8CFFFBA7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E4B760-64B4-4661-8716-6D048720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DD3EA9-863B-4AEB-9680-67719325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73AED0-AB75-4A14-A555-064475E8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E5502B-9832-4988-BA66-55B189D5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BB8982-D2B6-459B-9C90-F1B620EB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728C36-6458-4E0B-B6D8-A3181E9D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906E4E-76FD-4D81-8D29-ABFCC796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2CC526-4BDF-46B2-A338-E2B0A42E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CF7C70-2E4F-4863-8324-81C39A5E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634872-F48C-47A6-92ED-434A4486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A6202-C58F-4FE0-8AD6-97BC20E6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A030DB-5E5D-4B76-9794-83C57FC5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B81911-B599-4A5D-8E8B-D2469AA3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CEAB45-6E50-46AE-B4E3-1907FB6D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D38137-E64B-4ADD-B663-DC502626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D8D78C-A02F-42CA-9329-2928D463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046827-71F5-4EDE-BDCA-BFD30A960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07E371-089E-4A98-9F7C-A663C2B0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86805E-E12E-42C7-8B9A-100BCD2C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B14E1E-42C8-476A-BB17-B36A714B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42630A-1D77-4E4E-9B0C-81FEAAE6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A69B9-60D0-42C3-AD11-79EE64B1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1839D2-29E5-413F-B7F5-14995234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F3F5F4-722B-4F75-BCAE-041DB927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2A0768-B87E-4420-9442-E257DE40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359B32-E879-404F-93A7-2B01E1BC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CA4B13-BE03-47B7-9FA6-4F7FE130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7E638D-534A-4E98-B2A0-D40EB6AF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AC1C7A-58C4-4694-A395-02095923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9F0679-AA19-4FD2-B7B3-D6ED5DC2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2E7210-0617-4BEA-AF2D-4D0D13D52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4E834-E731-42C7-BF9C-8AA249DC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49BE-C3E5-474B-99BA-2A1D66BD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45E7C-372F-4165-8165-7D2AB719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B4E01-D0AD-4836-82CF-0704D799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A668E-C005-46F2-BE9A-B1752950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0EF0D-B569-43BB-991A-796EFB7D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5879D-988E-4BB7-A155-DB7FC063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95696-DF43-4CEE-B93E-047E9C5F3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25C5F-1C40-4876-9865-12CF4ADD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620BA-3042-485A-A713-18E8967E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91288-8BF4-468F-9A08-352D76E7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9FAFC-5846-47D8-8542-3ED275EB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6828-7AF7-4FE1-B40F-58A86C5C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1D6D4-B056-4D12-8109-048ED700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3C1D9-6D72-4BD3-A0C9-E9A4816D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41E43-8DDA-4B5D-BBEC-94F0B9CC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2E168-2BC0-41B0-BCD4-B0F64C91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4F59E-3467-44B7-8AA4-C671E7D7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DE245-4E35-4160-9F22-3B85CDFA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42A90-67EB-4038-A0FB-AA885334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13FE8-A18B-49D6-8D0C-4891F6BE9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EF13C-F85B-44B2-A605-E45B1D8A1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91BE8-3785-43A0-9321-68318F0F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DA7E-5F26-423C-997E-1740DAAB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7B5E2-86C9-4F30-89F5-541D52E4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0DBDF-A52F-4E61-A1B8-B7D06D0B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1679B-521E-40FA-A441-BB7DDD68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FBE88-1C65-42DA-B17F-A2D4839E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8FD4E-DDE4-4FBA-820D-39AB2952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FE5E4-95E6-49FE-B510-95094D6E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93BB9-057E-4DB5-8807-28303067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CE659-36CF-4E97-81EF-FA45287D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C1167-BC10-41B9-AE70-A5ADBBB8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CC7EC-CA8E-4D98-BDBC-95B917416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5682-83E0-4962-BA89-23A0DC41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C992D-A674-4288-819D-EE968F54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571B9-964A-4241-91E7-33DE86869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62DBC-EB1E-4F18-81A7-84F4772B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1F256-F634-4317-BD3D-25070B8B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554F5-8CE0-4449-89F6-4298D776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9597C-07E2-4EB7-AC21-9F807762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3DA01-ECCA-428A-BAC9-D0F9686F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1F86E-6C66-464B-8BF9-8832FBFD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83EFD-259B-4ECD-9064-B708AF8B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E77B9-9AFD-4F2C-848B-BD9AFC6E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8980-59C4-4ECF-A73B-EDB646E8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89957-BB50-4552-BAF1-1E3E155A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5DEB2-5281-4BBA-9D60-B3643B509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AB01F-87F6-4106-AA52-1857DFBD9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D65CF-D0AA-4F8E-BD4D-B50FB3DA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ACBFB-F9E3-431F-8FCB-592B4F75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3712C-89D0-42BC-BAD7-C01B24A6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6603B-3085-43FD-BAFC-440B5DC3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3684C-54D2-41A4-95E4-C296EF5E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D3973-1669-406C-8548-147651D1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1AAF3-12DF-49E4-9BF1-49FA4F34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3EAA-FF73-4530-A1AA-DF77FD08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36046-2809-4158-8F2F-3180DF46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54669-5B69-4CFF-977B-BCACADC0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E50BF-B90B-47F9-8725-3F20D857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2D29A-9E4E-4677-8F48-AC379B645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63FBC-84E6-4CD8-B147-E94BB09D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EE32D-9AA5-445C-B39E-0E5D8150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9723F-AA33-4FC6-819F-C51A32D2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FF4C4-5D88-4CED-81CC-274D5538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E41F8-A10D-42AF-9247-D184F660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87084-C0E3-4F98-AF38-7E7F458A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D5B2-EB0E-4F7D-B137-5CA53E89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D5DEB-522C-46FF-BA44-D78C8CB4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FC5AF-8226-4746-9716-D057334E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8069B-C279-4679-A317-C24CD925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F84D1-D3AE-43B2-AA9B-F507267D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9462E-64AD-4DC3-8E24-22A2A043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A4737-EBAA-4DE9-8614-78AC32D76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EA6AC-2025-4F8A-BA25-DBF0FC039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2596F-BDC4-4A03-A8FB-12F36A33D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32469-2E1F-4065-B3E9-A4A4F69D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C2F37-1614-4848-A2EE-8B1FEF97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E4F0-5423-482E-990A-C7A0318C6DC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714A-43F2-45DC-A9A7-D66DCF0518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4EBB-60A0-49BB-BFC9-DC3C45D96BC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E313-8BD0-4720-8716-20E3C936C8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2D55-24D3-4538-A47B-E735D3E1DFF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734C-6539-40AC-BBB8-85F13D205A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7588-1AF8-489E-90B7-456B638351B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725B-A9D5-4FC5-AAEB-9F1D5C756C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1C98-5677-4625-B8CF-5DA4250912C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A6FB-B2F0-4B6C-AE36-528E85DBD4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5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5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66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66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B7FF-FF7A-4AF2-B562-74CF693CAEC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431B-E39F-40EE-8A27-7E90708BA2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9F47-FBBC-44CA-AF49-12B90C74D1B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79E4-8310-41A7-ACB4-375AD7A6AB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12BF-8772-4D31-8C57-8727797846E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34F3-C488-4A02-A4E5-3EF736DD4B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0AD4-87EA-4AD3-B4F2-6202BCABC79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FE52-FF8E-4448-B5CF-3A4B7F4308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B0A8-EDB1-4826-A174-8D2682926E7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76C5-8A5D-4325-918A-ED98BA8241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C19D-DA6D-44F6-AF77-9A7FB2EE05A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562D-DE81-41FF-B42A-6AFF4A9381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41CB-EFF7-4440-A2D5-C8B9D11651C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BB09-FCC9-4055-AF55-442D263911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8C26-7E86-4394-8284-469033C2917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BB09-D75A-4DD5-96C2-6EFE36EE6A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D47D-7D19-44B3-86E2-FCD71B1E3D8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C321-0691-4C8C-92B5-5CF2E42055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F8E4-6791-412F-AFEA-520F4FFEC20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FB6A-BFDA-41D3-9858-ABC1504C47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B64C-64BD-4DBF-B692-16541C3BC1C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E5DD-BD13-4A41-BD27-580E1001E3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C1DE-2CE6-474C-B4CB-BABCDC4AE49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1E38-5CD3-4788-90BA-21383C60BC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F198-92CF-44AB-9C96-8E3049E09AF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520F-616B-49CD-9A0F-62290FA647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742D-0F38-49AC-8AA5-C465D90955F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D5A7-4753-405F-A26C-84FA31E650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7D4C-5104-4248-8A60-0C02B635A62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8F8A-3CAE-4D33-BF5A-F65D4AB779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260A-ED8C-42C0-88D4-C55B4E97DFA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7CFB-983A-453B-BC40-A36382687C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B3D1-9895-4D23-8064-23E162A3EDB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0E67-ED88-4A76-B934-4ADE5A5549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9959-92A8-49D7-99CF-54537112F04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A2CD-F305-4620-90B6-0224685FD8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6AA5-0682-49E6-9910-B8C0A195DAC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93A7-9FC6-46D3-BE62-DEDE22136E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Прямоугольник 1" descr=""/>
          <p:cNvPicPr/>
          <p:nvPr/>
        </p:nvPicPr>
        <p:blipFill>
          <a:blip r:embed="rId2"/>
          <a:stretch/>
        </p:blipFill>
        <p:spPr>
          <a:xfrm>
            <a:off x="1865160" y="950760"/>
            <a:ext cx="5828040" cy="260352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2"/>
          <p:cNvSpPr/>
          <p:nvPr/>
        </p:nvSpPr>
        <p:spPr>
          <a:xfrm>
            <a:off x="3155400" y="46832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4" name="Picture 2" descr="C:\Users\SunnyBeam\Pictures\sch009.png"/>
          <p:cNvPicPr/>
          <p:nvPr/>
        </p:nvPicPr>
        <p:blipFill>
          <a:blip r:embed="rId3"/>
          <a:stretch/>
        </p:blipFill>
        <p:spPr>
          <a:xfrm>
            <a:off x="227160" y="2492280"/>
            <a:ext cx="3600360" cy="3205080"/>
          </a:xfrm>
          <a:prstGeom prst="rect">
            <a:avLst/>
          </a:prstGeom>
          <a:ln w="0">
            <a:noFill/>
          </a:ln>
        </p:spPr>
      </p:pic>
      <p:sp>
        <p:nvSpPr>
          <p:cNvPr id="1125" name="TextBox 3"/>
          <p:cNvSpPr/>
          <p:nvPr/>
        </p:nvSpPr>
        <p:spPr>
          <a:xfrm>
            <a:off x="5540760" y="314172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глаз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4"/>
          <p:cNvSpPr/>
          <p:nvPr/>
        </p:nvSpPr>
        <p:spPr>
          <a:xfrm>
            <a:off x="4553640" y="3789360"/>
            <a:ext cx="40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оложено. Требования СанП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7" name="TextBox 5" descr=""/>
          <p:cNvPicPr/>
          <p:nvPr/>
        </p:nvPicPr>
        <p:blipFill>
          <a:blip r:embed="rId4"/>
          <a:stretch/>
        </p:blipFill>
        <p:spPr>
          <a:xfrm>
            <a:off x="414360" y="5742000"/>
            <a:ext cx="7699320" cy="884160"/>
          </a:xfrm>
          <a:prstGeom prst="rect">
            <a:avLst/>
          </a:prstGeom>
          <a:ln w="0">
            <a:noFill/>
          </a:ln>
        </p:spPr>
      </p:pic>
      <p:sp>
        <p:nvSpPr>
          <p:cNvPr id="1128" name="Нижний колонтитул 7"/>
          <p:cNvSpPr/>
          <p:nvPr/>
        </p:nvSpPr>
        <p:spPr>
          <a:xfrm>
            <a:off x="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Picture 2" descr="C:\Users\SunnyBeam\Pictures\мяч1.png"/>
          <p:cNvPicPr/>
          <p:nvPr/>
        </p:nvPicPr>
        <p:blipFill>
          <a:blip r:embed="rId2"/>
          <a:stretch/>
        </p:blipFill>
        <p:spPr>
          <a:xfrm>
            <a:off x="3995640" y="5445000"/>
            <a:ext cx="901800" cy="9003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2" descr="C:\Users\SunnyBeam\Pictures\мяч1.png"/>
          <p:cNvPicPr/>
          <p:nvPr/>
        </p:nvPicPr>
        <p:blipFill>
          <a:blip r:embed="rId3"/>
          <a:stretch/>
        </p:blipFill>
        <p:spPr>
          <a:xfrm>
            <a:off x="7147080" y="54450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2" descr="C:\Users\SunnyBeam\Pictures\мяч1.png"/>
          <p:cNvPicPr/>
          <p:nvPr/>
        </p:nvPicPr>
        <p:blipFill>
          <a:blip r:embed="rId4"/>
          <a:stretch/>
        </p:blipFill>
        <p:spPr>
          <a:xfrm>
            <a:off x="3995640" y="9079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" descr=""/>
          <p:cNvPicPr/>
          <p:nvPr/>
        </p:nvPicPr>
        <p:blipFill>
          <a:blip r:embed="rId5"/>
          <a:stretch/>
        </p:blipFill>
        <p:spPr>
          <a:xfrm>
            <a:off x="1042920" y="4797360"/>
            <a:ext cx="949320" cy="947880"/>
          </a:xfrm>
          <a:prstGeom prst="rect">
            <a:avLst/>
          </a:prstGeom>
          <a:ln w="0">
            <a:noFill/>
          </a:ln>
        </p:spPr>
      </p:pic>
      <p:sp>
        <p:nvSpPr>
          <p:cNvPr id="1133" name="Нижний колонтитул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лифиренко Е.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БОУ СОШ №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4" name="мне мама тихо говорила.mid" descr=""/>
          <p:cNvPicPr/>
          <p:nvPr/>
        </p:nvPicPr>
        <p:blipFill>
          <a:blip r:embed="rId6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16" dur="2000" fill="hold"/>
                                        <p:tgtEl>
                                          <p:spTgt spid="1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20" dur="300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C 0.21511 -3.7037E-006 0.39046 0.11042 0.39046 0.24746 C 0.39046 0.38496 0.21511 0.49607 5E-006 0.49607 C -0.21511 0.49607 -0.38924 0.38496 -0.38924 0.24746 C -0.38924 0.11042 -0.21511 -3.7037E-006 5E-006 -3.7037E-006 Z">
                                      <p:cBhvr>
                                        <p:cTn id="24" dur="2000" fill="hold"/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C 0.06076 0.11713 0.1783 0.14953 0.26146 0.07268 C 0.35937 -0.0176 0.33993 -0.15625 0.3217 -0.23357 L 0.29288 -0.33311 C 0.275 -0.41112 0.25764 -0.55139 0.36823 -0.65348 C 0.43923 -0.71875 0.56909 -0.69815 0.62986 -0.58102 C 0.69062 -0.46412 0.65955 -0.29468 0.58854 -0.22917 C 0.47795 -0.12709 0.38541 -0.19815 0.33698 -0.24792 L 0.27743 -0.31899 C 0.22951 -0.36899 0.13923 -0.4419 0.04132 -0.35162 C -0.04202 -0.27477 -0.06077 -0.1169 3.05556E-006 4.07407E-006 Z">
                                      <p:cBhvr>
                                        <p:cTn id="28" dur="3000" fill="hold"/>
                                        <p:tgtEl>
                                          <p:spTgt spid="1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46326" fill="hold"/>
                                        <p:tgtEl>
                                          <p:spTgt spid="1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3:40:25Z</dcterms:created>
  <dc:creator>Admin</dc:creator>
  <dc:description/>
  <dc:language>en-US</dc:language>
  <cp:lastModifiedBy>каб_12</cp:lastModifiedBy>
  <dcterms:modified xsi:type="dcterms:W3CDTF">2014-02-10T10:23:09Z</dcterms:modified>
  <cp:revision>6</cp:revision>
  <dc:subject/>
  <dc:title>Презентация PowerPoint</dc:title>
</cp:coreProperties>
</file>