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B0C1-839F-4814-A7E5-87D4A009A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D474-EDDB-4B39-A430-BF2488DD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4133E-C56D-48DD-A6D2-555CF068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79535-75C9-42E8-9811-D6B642AA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4898A-6A89-4E72-B593-482D116B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CB38A-B90A-415C-81E7-70651381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A5234-3C75-4A67-9C3B-A6D3D33C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7E5DC-9FA7-4141-855B-16C74C90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21412-D907-4B92-B734-796819EF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3209A-9080-446F-9B94-F7FF9C4CA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228B5-2662-451C-AAE2-9E2C98C1E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9B47F-DD21-4028-BF97-BFF98CB2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C4FC-D16D-4B74-9071-B7C8F6CB5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ABFE7-8AB2-4753-A946-179E8EC0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F1137-2A95-45D9-9BCB-8D5A2158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DEBB30-47BC-4520-ADFA-19FABD64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A10425-1666-4201-BC1E-827247D1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2B815-0025-4172-A112-F0FDC7F7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A8A78-7596-4772-B9BB-08D2B70E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EAF74E-E13E-47A2-8A92-394406EC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E59B8-6CF1-4777-A059-4121F9FC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7EB858-E7E5-4A56-9BDC-CA532EC9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CA776-0BAF-4561-B8A1-1EA603969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3007-46DD-4943-9EFC-D2F652C6D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587AF-EFC4-49A1-9E25-0E668F798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065A8-C073-41A4-9447-5F955693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C98C1-0DA3-4DF3-B1C6-B646CC70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15564-3815-4A61-B007-0CABF48E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D20A9-6295-4746-A7D1-096899A5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59602-D00D-4CDB-8376-EFB4C8C3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DF620-7CD4-41A6-A36C-4808ECB7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33B9C-0C45-4AFB-B9BC-825B8464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D2E2D-B282-480C-AF28-C14F639F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45DA9-8746-4F0E-AA11-D6E07FCC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9B0B-B67E-420A-9B42-21C0B00FD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37106-DD4A-4714-B512-CC0AFE38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080C1-B871-4100-A834-67022414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8DBAA-5BA5-419D-9352-FED025BF9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AD9AE6-FBD6-42D3-AF3A-A662AA83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AF5E2F-D3F3-4B20-9979-9C599A28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A557BA-83C2-4465-9F74-C4F642F4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03492D-8810-4FDE-9E89-34BE284D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B08EF1-640F-4A7B-8F87-59880DB8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F622B9-BDA3-4F8B-800E-FC86A6F8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502187-1295-4820-B33F-11071AF7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4988-4F80-4C3C-BB1E-FB480B22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D8D375-37EF-4464-8887-C9E23E1C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6DE089-8364-4A64-A699-5FB5021E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3E9F76-4BE4-4A21-8FCC-7E727CD0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BA795-33FD-4B7E-AE6A-240E8C78A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B75695-2073-4A6B-963B-9C9C1F5C6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FF2BF7-D5FB-45C7-BEE8-1FCEC068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B90D09-9831-4C03-8919-7909427C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0416DA-A755-4BD8-BABE-75827A0F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4FA082-3EBE-4E4B-9E0E-2109683E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1443F6-A94F-473A-B856-F05E2D6B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0775-44A3-4505-BA72-5EB271DE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8963CE-3D09-47A0-8185-5A8D010D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A92C15-DD9C-4CFF-BA67-BCA397BB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843411-C218-40D2-9875-1E318CB5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164D46-0803-4B75-87AF-834B6490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C6B0B9-EF82-41B3-9572-E93EAA4E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7F5897-D8D0-43CE-B48E-FF5BABB26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177046-DBD4-4BC2-9024-3448E0F22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F44226-1AE7-4C08-95D1-97438B8BC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532A88-F03A-478C-BC28-E72672F9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8F23C0-BE60-4F97-BE12-D73DF540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7D2F-5737-4CE8-9598-1B949407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AD8AA8-F569-48C0-AAC4-0BED6C12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6185B4-74C2-4CE0-B83F-F0FFBD76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F39E3E-E2BC-40B7-BBC6-7024B3EE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62CD18-2B9A-4832-8344-B29597CC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2DAB27-B470-4052-8641-CC6D6272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BC57FC-52B4-4E6A-82F0-83F03E7E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6BD1CD-A70C-4014-838B-040A87F8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1E07D7-1165-4938-B548-84D4FC819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96DF61-E2F6-45CF-B5CC-0CD55114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1FE269-8D68-4B7B-9EFC-91C1788BC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2607-A917-4754-95B4-9DA027DB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A94B2A-A1E6-449E-97F8-399FD9E9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966785-BB57-470E-9124-2A6BF2B0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50D3DA-DDD0-4697-A258-62F16AF2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966A00-DF1C-4BC8-BD2C-C6519EAF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87D8AC-626D-4DBD-ACB5-5AAF80B0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61B0DB-AE50-445E-BF85-D08668BC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16CF8D-5907-4C9F-827A-A7674DCF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420BBF-3F0B-4D82-BF70-51B46796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7AF598-6FD8-4F2A-A63F-E8E76BF5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0D3840-4D52-4416-8489-22C2A50DF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0326-0743-49CF-93A7-41BBA95C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D2F7C8-76FB-4604-9289-6813C6D7E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53ACEB-FB3A-44DC-948F-3E08E3BA7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60598C-59D8-48DA-92CF-61C583EF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9BF2AB-4607-46DA-B476-232566F1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3B160A-2215-4405-9349-EBA5BE27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4D9988-40F5-4548-9E3D-CF83DD20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64544A-5B76-4E08-95AD-DE6D6561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CF084D-7740-4E6A-AB63-2606E40B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BF67B7-687B-4917-9BA5-9BE169A1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94C80B-153E-49A5-BFB7-89BAE101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3202-7DDB-428C-B89E-ED64FB4F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D48D93-88A2-4A61-9E07-A6F3AEC2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E7DA9E-DA7F-48AE-AA2A-64E752714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901D15-E05A-4D90-A497-852D35E34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ACD3E4-0D1C-4DDE-A247-DA97D488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BD369F-9E4A-4D7C-A8DA-48DD77D6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4475F2-D88E-4923-B7BD-F95BF339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D501BA-7471-4B60-B5F2-8A01E6E7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EB0927-16FA-4147-B71D-C0298527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EA7DA5-8B29-47AB-9DD9-1D377DFA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8754A1-3112-4055-9FF6-DA7FA010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7EB9-ED6D-44CA-9915-02BE2E53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3DB7-2328-4126-B761-0009F30C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E4FEEE-8D08-4ABE-A78A-E67470BE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25EB78-05EF-49B3-AFB8-EB172DBA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4F3F39-B792-41F8-844F-619A30AA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622AAD-E30E-41CC-BD94-1EE863AD0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795E6B-10B2-457A-93C9-B6DFE0669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5DCA62-6613-419E-A71A-3007704E9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032A6E-A3F4-4213-831F-657B62AC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E8ACBE-1F07-428A-BDFC-CB8E5362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4ADC8A-77D3-4DF0-B180-059C71DB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6A5924-4CF7-4AC1-9CB8-1FF0D806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562B-0B9A-409B-B515-4556B0A1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88C273-E6B4-4FFF-A7AD-276358DD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59F6AF-1EC3-4F86-9C1A-1173618E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12A316-AC79-4457-B9C3-F69DBD12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8D47CD-1349-4AA9-B0E2-17F46B40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6176BA-67A9-4CE5-A691-00C2E598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8D8558-DFC6-4047-A4B9-4BFC9B9A7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601389-01A9-4C7E-A710-7D59AB94A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10C851-600A-4FDB-BB71-C35CA9AF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37AF2F-331B-41F3-A3A6-847B8088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CB5A84-BF7A-4FFC-8A41-93CD3B12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A56D-FB6A-49B6-86D3-4995AC03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582343-8695-4ECC-B3C1-90BC9888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6F5A2F-93BE-4FCC-BAFF-B6884FE4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56963D-7553-45A2-83D8-F2406A99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A5358C-74EF-4316-94C0-702D9834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1C4098-A9EB-4CD1-80CD-3B56D8DE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007BE0-77DD-43F6-BF40-C64D2B45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4F1E7D-B497-4C97-B6B4-773A04BF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3DDB00-D92D-44C4-8D7C-DF57D0B8E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F7B80D-942B-44B4-94BD-28ED6F591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B978E3-0AAF-425A-8613-5D382BF00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E808-794D-430C-BD56-4ED944605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9581D9-078A-4DAC-BB49-C0022BED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B3F6C5-C19A-4F93-8F6F-65D59705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EB6036-41DE-43DF-B214-FDB71BAF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A0D1A1-A0FC-4B82-8C52-C883F5AE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60EB94-3364-44AF-934C-AF5CDED7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697334-4B99-49D6-AB27-1F87C431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5EACE6-AC41-47C6-9949-9272F303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B12B60-BDEE-4751-A8AC-22C41051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427EBB-9881-476E-A2C8-4166AF90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721B33-01C4-4F04-B0B0-6736366D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0A16-2463-4ADB-9A45-80BD1FB11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D3EAB2-310F-44FE-A784-C7A0B53B4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069C35-7508-404E-B1C4-DC6C4E2AD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A70EAF-6BCC-4804-AF2C-78BA923E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8FAA1B-8832-41AD-AEF2-0E959A79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74C180-5A8B-410B-9FA0-4A650CD3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C71327-AB4C-4C9A-975A-83CBFFD0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8F5417-D559-43C1-A68E-795157E7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360541-FAE1-4361-80A3-2FE609AB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4D3C07-B594-46E1-93CA-DFC57787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48A7BA-F99D-4941-854C-3006900D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A4F01-BE5A-4071-A22C-5427C1933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9D7796-E931-4B31-A24B-2E4534E1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61B6E5-D4EF-4048-A26E-E12CD0761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F44792-BD42-4E80-AB32-2D5FC5C8E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B73717-24ED-4502-83B1-4838E062F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1C0060-6184-4E7C-ACCA-D56FA5AB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E5C0A7-070B-46FA-8116-085F289B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2FB17B-9FA9-4DB0-8840-2F231375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4D4E0A-6B3E-4F92-B2F4-AD66632D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414444-4744-41BC-9C72-C022F36D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2F0AC9-7993-4D8C-941F-16111D1F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1202D-395D-4C41-9582-85E5D9ED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F3F380-F359-4278-95B3-CE652E8E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05F5A2-EF3D-4065-9B5C-84B62761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5E57EF-B279-488C-8016-4FE86E32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F00EA2-039D-4D1D-8C44-0C402033D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81C0AD-12EB-4793-B917-8F3CB786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D602EB-FF02-4079-94A9-F1101D76B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29797B-E26B-45DD-AD02-A50CF01C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647587-E816-40D2-B830-0D247E73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4FB4C1-EFB0-49CE-9B58-D5BD0217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82715E-64AA-4EA9-A11A-CDEDD6E4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9A6A1-0ADE-4271-863F-46A2AB28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7A0FA7-DBB5-4E26-8BEC-A37BE50B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23B76A-1995-4CEF-890F-5AC97FE0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5E3416-6F6A-460C-A73C-DC041013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92AB49-0758-450F-9612-0FB9F4E3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015EBD-E90A-45F5-A96F-242A37F5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23E10C-3202-48D8-86B0-44B7C182F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24334A-1EBC-4F65-A7A6-671CF0A30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E4D5E7-5543-43D3-B683-EA3B9A102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0D795C-3C2E-422E-8CD8-C23FEEAF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EB20A1-6DFB-4556-84A8-8D361ED8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9E480-9ADA-46DC-AD3A-0288190F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429B34-6309-44AC-B46D-8399DEFE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FD4A92-9C92-4E00-9C29-BAC650F7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4DC34A-BA26-4C7E-B754-F0A8AFD2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1274F5-E5B8-427F-8E15-1C652DB7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B5CCA4-2767-4529-8387-93CAC594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5D5D68-AF5B-47D8-B405-E108119A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9D0EAB-5B32-4F19-BE82-6DED71C0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0EED41-2F11-4EAB-BA1D-5EE736C19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44AD94-243E-43AA-AA64-E2A9CF025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333D5-0372-45A4-A174-123442A4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F179-BC89-4AEF-A83D-B2F2D541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21DC4-741D-49B4-8993-B3572F26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371AB-1581-4507-AF27-091BEE53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695EF-FDF9-4500-9097-58A8589C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67E4F-3954-420B-8E63-80B06088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1D690-4A5B-4740-996A-D8037B24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A4196-EDE4-445E-B58C-85F0FE589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77A21-331F-4B15-93FC-3D4B801DC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FC36E-3FC0-47A3-99B2-EC084530C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5E549-0A1D-47B6-ABC3-438AD7C7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3328F-1B43-4957-BEF4-835A96AA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2625-5C78-43BD-9C42-FF302546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3F063-9564-402E-9F01-D23A94BB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781A2-34A8-4790-B4B1-5112155C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B09CF-CEB8-4F12-9A1B-BB2994FD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9C8B0-DCD5-4D18-9F72-9117E24B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6819A-7B31-443F-ACAE-DAF5E2B8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4B81C-F3BC-45F5-93D2-E5468E63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9F67F-589E-4680-9140-F5C5A9B6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39D8B-D8F2-437B-A697-AA1405B9A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AE303-41C1-40F5-80F2-DC4F1365A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B846C-2D74-4189-B959-C873C60B8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61E4-A54A-477A-918C-435A50F2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7E44A-DA09-4325-BEE9-C3C47829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E2C05-A699-475D-B34D-9D7F2ED3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5EB61-F89E-4A59-80FA-9C1A5F2F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217EC-B29A-44FE-A636-245533D3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CE011-2209-4AFC-AB89-00FBA44D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7292F-4692-4248-9E1C-D46157D4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DF22A-8F99-4929-B05E-27DE3DA8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30B40-1A6E-4EFE-B3D6-AF7C53FF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667A8-3A10-4B69-B882-BF5D06A6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AEEA8-2132-4465-8B8C-A169C3BE3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2F5E-ADAD-4D1E-8267-5F4EDA12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47F86-6022-46F9-BE43-7A81896F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22CD4-6259-467E-818D-FACBCE54C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FA2FD-851E-400D-AE99-AE94E53C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E8DC5-AD55-47A2-BD45-C556EEA6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8146A-82C1-4B02-9143-3E16B571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5C1E4-4E3E-44BE-B673-5152A1A9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E60AD-5178-41C2-958B-95832B6F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BA33C-37A6-4369-BB8B-40C9C2CF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E74BC-6D92-4CC4-8340-556CA99E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B7066-D02C-493B-AA21-F29B2A83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80A1-4CA4-49C3-BE32-A59BDF6F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6CFA6-E1AE-4752-9F0A-AD6094E9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6E24A-F5E7-4DA3-94BC-769627178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1E412-CD22-40B2-8F37-9F0EC3212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C3A3D-C716-4C62-8B00-02C35E26F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D0005-7503-4192-A7E4-5F980EAB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3E271-5FC4-4CAE-85FE-AC0040B2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35D29-1A9E-40D0-8117-94CCF43F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F9E87-22CD-4759-8612-CE260BAB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57523-35E6-486B-BBA3-11EE7C3D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F2768-ADB5-40E4-BE68-6A0F833B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D1FA-2961-45E4-B10B-F4878683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98A4A-5760-46E7-BFC8-6D45ADB8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D073F-2E12-41D7-BDE4-03AC3D99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0E8D8-AF09-4DA9-BA44-0C23EE1C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04CC5-DE9B-4193-B72C-26357475E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EE600-D4DE-4B32-B51D-952102D02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E2348-D712-4687-8C15-A8C5792FF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0F1BE-10D9-4A52-AC24-7F115A08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B3A92-4255-477A-A5CB-73813315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DF17D-CD39-4DCF-A2D6-8CC02581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1DCD9-A777-4D13-8755-E7C4846C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A961-153F-438D-A3AB-D0FA0F33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30D32-646B-46AB-9F01-06525979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76EB4-B516-43A0-84FC-BD68F263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E2821-9CCA-47B3-8A62-30F97FA4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0EDB9-4C6A-4AB4-B7BE-6ABCF8CD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8A80B-F572-4ED8-9E45-1C7B7586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150BA-A281-4540-A506-11A54946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7C014-8EC4-4FF9-A675-50845A624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DCFD7-805E-4D9B-ACBB-108E56BD8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C4F2F-1602-4DA8-B11C-BA58B795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0DF59-AC40-4700-8C0B-5F321969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2FF0-368D-4F60-9B5A-8C187CD7C78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2649-4A3E-4F85-AA05-91A2F9B6EA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715F-1D7F-4F18-A023-8FAA6A05BE0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4C73-6867-48FD-A0D6-66CE9FA558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3EBC-A308-4F3F-8808-B40DEAD946C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F81B-681A-4BD9-B6FA-F56570BA95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0C2C-55E7-4E4D-9313-EA586013DB1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07CD-11EC-4BC1-98CC-4592D044E4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0B63-12FF-4847-BCF4-FDB9796B733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46F8-BF9E-4589-9F43-9855053452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5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5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66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66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46E8-7A55-4A86-AA32-E1919A2AA4F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05F1-02AD-4339-8891-D0DF2CA898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D9AB-C94D-4098-9127-D868D3004A0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A52F-2130-4C2F-899A-5391DEEB99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A261-C545-4275-9ACB-2E1DE9E75BD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C25F-BEBB-4DB3-98C7-FE0F183362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2950-E6F0-40FC-8E90-59D461F2FB9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B6F6-DAB2-4330-BDE7-362764EDCD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5554-1374-49D7-A788-A923F224D48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DB44-22D3-41F6-893A-1000BC9895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6D86-B0BE-4809-B920-D31A16AAEA9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E493-B2DE-4349-AA04-41EEEAFB5E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401C-35B1-4C1C-92F4-D1947A41BE8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C50F-DAE9-4DF2-8FC1-59130DDE68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A6C9-0B03-4DBD-A636-E1C482D00D5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367C-F6FA-42E1-ADF2-F1DA470234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5F0D-CB52-494B-BDFE-7192BBE9EE2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F3A9-7ED2-4342-97D3-8F0EDBA464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E243-6272-4FCA-9A3C-A02F6AB93C9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2A71-FA72-4354-B201-99CDF0F37F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AB5B-849B-4442-A329-A0BBD985C60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634C-20EC-4743-8025-B399EBB77B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B789-F2CB-4C59-B02C-B9DCCE31743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8207-B9B0-41CA-B0F8-8E35DF35F5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6AAB-4818-46B5-A92F-501F0C4A026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0A19-DDD6-49BD-99EF-6D2F49BD18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0DAB-1AA4-42B1-9DE7-ED7C275CB51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176C-0572-4A8F-9A8D-D525BF316F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02CE-DE59-43B9-B60A-748A5B2A54B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A13C-93ED-4BFA-8E56-C825D5E758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4331-0AC0-4A62-848F-996371334B4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DBA6-9EF8-4340-8E0C-62E5A7AB2B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B565-A83C-4C44-8F3C-6E7253A7BBD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3682-364D-414F-9AB6-C517A11769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CDCD-BD2B-49E1-B389-85FE84D7859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948D-6770-4600-B48E-786D713D60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A8C8-1FE1-45A8-810B-CD6EE7EF178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E1F2-C9BE-4907-9C03-99D0FD4A10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Прямоугольник 1" descr=""/>
          <p:cNvPicPr/>
          <p:nvPr/>
        </p:nvPicPr>
        <p:blipFill>
          <a:blip r:embed="rId2"/>
          <a:stretch/>
        </p:blipFill>
        <p:spPr>
          <a:xfrm>
            <a:off x="1865160" y="950760"/>
            <a:ext cx="5828040" cy="2603520"/>
          </a:xfrm>
          <a:prstGeom prst="rect">
            <a:avLst/>
          </a:prstGeom>
          <a:ln w="0">
            <a:noFill/>
          </a:ln>
        </p:spPr>
      </p:pic>
      <p:sp>
        <p:nvSpPr>
          <p:cNvPr id="1123" name="TextBox 2"/>
          <p:cNvSpPr/>
          <p:nvPr/>
        </p:nvSpPr>
        <p:spPr>
          <a:xfrm>
            <a:off x="3155400" y="46832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4" name="Picture 2" descr="C:\Users\SunnyBeam\Pictures\sch009.png"/>
          <p:cNvPicPr/>
          <p:nvPr/>
        </p:nvPicPr>
        <p:blipFill>
          <a:blip r:embed="rId3"/>
          <a:stretch/>
        </p:blipFill>
        <p:spPr>
          <a:xfrm>
            <a:off x="227160" y="2492280"/>
            <a:ext cx="3600360" cy="3205080"/>
          </a:xfrm>
          <a:prstGeom prst="rect">
            <a:avLst/>
          </a:prstGeom>
          <a:ln w="0">
            <a:noFill/>
          </a:ln>
        </p:spPr>
      </p:pic>
      <p:sp>
        <p:nvSpPr>
          <p:cNvPr id="1125" name="TextBox 3"/>
          <p:cNvSpPr/>
          <p:nvPr/>
        </p:nvSpPr>
        <p:spPr>
          <a:xfrm>
            <a:off x="5540760" y="314172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глаз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4"/>
          <p:cNvSpPr/>
          <p:nvPr/>
        </p:nvSpPr>
        <p:spPr>
          <a:xfrm>
            <a:off x="4553640" y="3789360"/>
            <a:ext cx="40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оложено. Требования СанП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7" name="TextBox 5" descr=""/>
          <p:cNvPicPr/>
          <p:nvPr/>
        </p:nvPicPr>
        <p:blipFill>
          <a:blip r:embed="rId4"/>
          <a:stretch/>
        </p:blipFill>
        <p:spPr>
          <a:xfrm>
            <a:off x="414360" y="5742000"/>
            <a:ext cx="7699320" cy="884160"/>
          </a:xfrm>
          <a:prstGeom prst="rect">
            <a:avLst/>
          </a:prstGeom>
          <a:ln w="0">
            <a:noFill/>
          </a:ln>
        </p:spPr>
      </p:pic>
      <p:sp>
        <p:nvSpPr>
          <p:cNvPr id="1128" name="Нижний колонтитул 7"/>
          <p:cNvSpPr/>
          <p:nvPr/>
        </p:nvSpPr>
        <p:spPr>
          <a:xfrm>
            <a:off x="0" y="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Picture 2" descr="C:\Users\SunnyBeam\Pictures\мяч1.png"/>
          <p:cNvPicPr/>
          <p:nvPr/>
        </p:nvPicPr>
        <p:blipFill>
          <a:blip r:embed="rId2"/>
          <a:stretch/>
        </p:blipFill>
        <p:spPr>
          <a:xfrm>
            <a:off x="3995640" y="5445000"/>
            <a:ext cx="901800" cy="9003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2" descr="C:\Users\SunnyBeam\Pictures\мяч1.png"/>
          <p:cNvPicPr/>
          <p:nvPr/>
        </p:nvPicPr>
        <p:blipFill>
          <a:blip r:embed="rId3"/>
          <a:stretch/>
        </p:blipFill>
        <p:spPr>
          <a:xfrm>
            <a:off x="7147080" y="54450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2" descr="C:\Users\SunnyBeam\Pictures\мяч1.png"/>
          <p:cNvPicPr/>
          <p:nvPr/>
        </p:nvPicPr>
        <p:blipFill>
          <a:blip r:embed="rId4"/>
          <a:stretch/>
        </p:blipFill>
        <p:spPr>
          <a:xfrm>
            <a:off x="3995640" y="9079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3" descr=""/>
          <p:cNvPicPr/>
          <p:nvPr/>
        </p:nvPicPr>
        <p:blipFill>
          <a:blip r:embed="rId5"/>
          <a:stretch/>
        </p:blipFill>
        <p:spPr>
          <a:xfrm>
            <a:off x="1042920" y="4797360"/>
            <a:ext cx="949320" cy="947880"/>
          </a:xfrm>
          <a:prstGeom prst="rect">
            <a:avLst/>
          </a:prstGeom>
          <a:ln w="0">
            <a:noFill/>
          </a:ln>
        </p:spPr>
      </p:pic>
      <p:sp>
        <p:nvSpPr>
          <p:cNvPr id="1133" name="Нижний колонтитул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лифиренко Е.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БОУ СОШ №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4" name="мне мама тихо говорила.mid" descr=""/>
          <p:cNvPicPr/>
          <p:nvPr/>
        </p:nvPicPr>
        <p:blipFill>
          <a:blip r:embed="rId6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16" dur="2000" fill="hold"/>
                                        <p:tgtEl>
                                          <p:spTgt spid="1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20" dur="3000" fill="hold"/>
                                        <p:tgtEl>
                                          <p:spTgt spid="1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C 0.21511 -3.7037E-006 0.39046 0.11042 0.39046 0.24746 C 0.39046 0.38496 0.21511 0.49607 5E-006 0.49607 C -0.21511 0.49607 -0.38924 0.38496 -0.38924 0.24746 C -0.38924 0.11042 -0.21511 -3.7037E-006 5E-006 -3.7037E-006 Z">
                                      <p:cBhvr>
                                        <p:cTn id="24" dur="2000" fill="hold"/>
                                        <p:tgtEl>
                                          <p:spTgt spid="1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C 0.06076 0.11713 0.1783 0.14953 0.26146 0.07268 C 0.35937 -0.0176 0.33993 -0.15625 0.3217 -0.23357 L 0.29288 -0.33311 C 0.275 -0.41112 0.25764 -0.55139 0.36823 -0.65348 C 0.43923 -0.71875 0.56909 -0.69815 0.62986 -0.58102 C 0.69062 -0.46412 0.65955 -0.29468 0.58854 -0.22917 C 0.47795 -0.12709 0.38541 -0.19815 0.33698 -0.24792 L 0.27743 -0.31899 C 0.22951 -0.36899 0.13923 -0.4419 0.04132 -0.35162 C -0.04202 -0.27477 -0.06077 -0.1169 3.05556E-006 4.07407E-006 Z">
                                      <p:cBhvr>
                                        <p:cTn id="28" dur="3000" fill="hold"/>
                                        <p:tgtEl>
                                          <p:spTgt spid="1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46326" fill="hold"/>
                                        <p:tgtEl>
                                          <p:spTgt spid="1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3:40:25Z</dcterms:created>
  <dc:creator>Admin</dc:creator>
  <dc:description/>
  <dc:language>en-US</dc:language>
  <cp:lastModifiedBy>каб_12</cp:lastModifiedBy>
  <dcterms:modified xsi:type="dcterms:W3CDTF">2014-02-10T10:23:09Z</dcterms:modified>
  <cp:revision>6</cp:revision>
  <dc:subject/>
  <dc:title>Презентация PowerPoint</dc:title>
</cp:coreProperties>
</file>